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8B1-6357-47DA-84F8-F4E6B77E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327-6FBF-45EA-909D-CD06E813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F44-F6C6-47E5-873C-1588BFCB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59D-2036-4E83-AA35-D0B52E74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8258-D514-4E5E-AEF5-C07E372C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E5D-1DBB-4EA2-8EEE-CCB4419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41C-E5A5-4CC1-B25F-3A41B87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1C38-934E-432B-8F51-31D8D8D2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3D8B-01E8-4F15-973E-C08C2F68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8C7-97D9-4921-9BD0-5E074F9A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5EC4-BAF7-41BA-9AA0-0AA298A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918-F9C3-4B81-9106-CE4F238A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5176-A1A5-4436-9EEA-5AEC977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B3E1-F21C-4A66-96C8-120304C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A47-613A-4B2B-B257-DE3B7A8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9316-56AD-4614-A301-2614E744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881F-8338-4572-AF8D-CB8D0972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208C-B95D-4446-9362-EA078E53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B0AA-4B4A-416A-B178-61D0ADEC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BE42-638C-4448-88C3-219CE77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0AC6-9E0B-4A85-A73E-2999E7F2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0BAF-C618-4257-9E1B-B27FB10D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F19-9F1E-48C5-8A9C-B0CA3C31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F1D0-7011-4353-9823-1B46868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6DF4-12D6-4361-BC65-B2F2FE37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AF52-4C61-483B-830D-17753B6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418B-017D-4CFC-8C9C-49A9D3A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FB85-16A2-4FD6-92F8-F42BA2E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6F3E-E2CD-47C7-901A-FF369CF7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81760" y="19051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7168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672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81760" y="4054320"/>
            <a:ext cx="25758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8F70-BAE6-47C4-878F-50A104AF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1F7-197F-47FD-ADD1-278A957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EF8-237B-4A87-87CC-D2DF8B7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680" y="274680"/>
            <a:ext cx="8000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C37-DBD2-4BB8-A50B-D427EEEB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FFC-6E2C-4923-AB02-82B7CA7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360" y="40543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75D-9188-4E64-B646-60E53D8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360" y="1905120"/>
            <a:ext cx="39042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680" y="4054320"/>
            <a:ext cx="8000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EC5-4F9B-4882-9C89-1383201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39EA5C9-A10B-47AE-BFFE-FD4C64C6ABF4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4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4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2200" spc="-1" strike="noStrike">
                <a:solidFill>
                  <a:srgbClr val="000000"/>
                </a:solidFill>
                <a:latin typeface="Calisto MT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2" marL="13716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3" marL="1828800" indent="-45720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4" marL="22860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CA" sz="1800" spc="-1" strike="noStrike">
                <a:solidFill>
                  <a:srgbClr val="000000"/>
                </a:solidFill>
                <a:latin typeface="Calisto M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04147D-99D8-43D8-911E-2A0E2657D10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standardRule.png"/>
          <p:cNvPicPr/>
          <p:nvPr/>
        </p:nvPicPr>
        <p:blipFill>
          <a:blip r:embed="rId3"/>
          <a:stretch/>
        </p:blipFill>
        <p:spPr>
          <a:xfrm>
            <a:off x="2705040" y="15238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aa7"/>
            </a:gs>
            <a:gs pos="100000">
              <a:srgbClr val="a6750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extPageOverlay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5600" spc="-1" strike="noStrike">
                <a:solidFill>
                  <a:srgbClr val="000000"/>
                </a:solidFill>
                <a:latin typeface="Calisto MT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sto MT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3722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680" y="615888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4046400" y="6158880"/>
            <a:ext cx="10512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77CA65D-8AC7-48CE-B9A2-223409A6A81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standardRule.png"/>
          <p:cNvPicPr/>
          <p:nvPr/>
        </p:nvPicPr>
        <p:blipFill>
          <a:blip r:embed="rId3"/>
          <a:stretch/>
        </p:blipFill>
        <p:spPr>
          <a:xfrm>
            <a:off x="2705040" y="3352680"/>
            <a:ext cx="3733560" cy="151920"/>
          </a:xfrm>
          <a:prstGeom prst="rect">
            <a:avLst/>
          </a:prstGeom>
          <a:ln w="0">
            <a:noFill/>
          </a:ln>
          <a:effectLst>
            <a:outerShdw algn="ctr" blurRad="25560" rotWithShape="0" sx="101000" sy="10100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1676520"/>
            <a:ext cx="8000640" cy="24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CPSC 203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Introduction to Computer Science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44197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TA: Shreya 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Email: srawal@ucalgary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CT hours: Thursday 3:00 pm–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Schedule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-3: Spreadshee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1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Feb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4-6: Databas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2: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7-9: Programm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3: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March 2009 (6.25%)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24440" indent="-4244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Week 10-12: Desig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Lab Quiz 4: 1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49600" indent="-4244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1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April 2009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66840" y="5225400"/>
            <a:ext cx="96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(6.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Assignments 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1: Spreadsheet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January 2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February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ssignment 2: Databases (8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Submission: April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47840" indent="-44784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erm Project (9%)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ut: March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Oral presentation: April 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to 16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lnSpc>
                <a:spcPct val="100000"/>
              </a:lnSpc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iki part due: April 1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sto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, 11:59 PM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1282680"/>
            <a:ext cx="8000640" cy="19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Spreadsheets!!!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1680" y="3644280"/>
            <a:ext cx="80006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Components of a spreadsheet window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Ribb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in Toolb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ontextual Menu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Office Button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142" name="Content Placeholder 4" descr="CSPC203_Template_Spreadsheet_Image_1.png"/>
          <p:cNvPicPr/>
          <p:nvPr/>
        </p:nvPicPr>
        <p:blipFill>
          <a:blip r:embed="rId1"/>
          <a:srcRect l="-5557" t="0" r="-5557" b="0"/>
          <a:stretch/>
        </p:blipFill>
        <p:spPr>
          <a:xfrm>
            <a:off x="0" y="274680"/>
            <a:ext cx="9143640" cy="61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Today’s Tutorial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sto MT"/>
              </a:rPr>
              <a:t>Spreadsheets</a:t>
            </a:r>
            <a:endParaRPr b="0" lang="en-US" sz="45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Aft>
                <a:spcPts val="20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yping in some basic dat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Using the AutoFill featur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tting-up appropriate field formats, such as currency, numbers, text, etc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alculating basic statis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000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Important things on wiki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905120"/>
            <a:ext cx="8000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bs Templat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A Exampl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PSC203_Template_Peopl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avelogue">
  <a:themeElements>
    <a:clrScheme name="Travelogue">
      <a:dk1>
        <a:srgbClr val="000000"/>
      </a:dk1>
      <a:lt1>
        <a:srgbClr val="eac968"/>
      </a:lt1>
      <a:dk2>
        <a:srgbClr val="2a2515"/>
      </a:dk2>
      <a:lt2>
        <a:srgbClr val="82682c"/>
      </a:lt2>
      <a:accent1>
        <a:srgbClr val="b74d21"/>
      </a:accent1>
      <a:accent2>
        <a:srgbClr val="a32323"/>
      </a:accent2>
      <a:accent3>
        <a:srgbClr val="4576a3"/>
      </a:accent3>
      <a:accent4>
        <a:srgbClr val="615d9a"/>
      </a:accent4>
      <a:accent5>
        <a:srgbClr val="67924b"/>
      </a:accent5>
      <a:accent6>
        <a:srgbClr val="bf7b1b"/>
      </a:accent6>
      <a:hlink>
        <a:srgbClr val="99350b"/>
      </a:hlink>
      <a:folHlink>
        <a:srgbClr val="78514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avelogue.thmx</Template>
  <TotalTime>255</TotalTime>
  <Application>LibreOffice/7.4.7.2$Linux_X86_64 LibreOffice_project/40$Build-2</Application>
  <AppVersion>15.0000</AppVersion>
  <Words>235</Words>
  <Paragraphs>43</Paragraphs>
  <Company>University of Calgar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7:11:54Z</dcterms:created>
  <dc:creator>Shreya Rawal</dc:creator>
  <dc:description/>
  <dc:language>en-US</dc:language>
  <cp:lastModifiedBy>Shreya Rawal</cp:lastModifiedBy>
  <dcterms:modified xsi:type="dcterms:W3CDTF">2009-01-19T07:44:06Z</dcterms:modified>
  <cp:revision>7</cp:revision>
  <dc:subject/>
  <dc:title>CPSC 203 Introduction to Computer Sc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